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3C6-F29F-4E87-A98F-E7375496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4FE-624B-456A-ADF0-82B682E4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E17-449B-4C76-ADDE-5EA1F6A5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947-6F81-40D2-BC63-EC91E869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9DBB-234D-4708-AD5F-6BE9C2F8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97C4-0C7C-4FD5-B80E-CFC40F42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28E5-DDC9-4B28-B26D-7CDC7E22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5E64-6937-47D0-A009-489C609F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AE37-D001-4538-85CC-1614B2E2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44BA-D2E1-4237-9749-A03347E9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63C2-3FF0-4C33-97F2-2578B5E0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5BB-7F02-43DF-BB58-943715BB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503D-7084-404E-B617-F0A173E4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1A89-65C5-406F-B52B-FCC1E31F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68B6-D7CA-42C7-A4F9-C87CFE0B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C45E-D7A7-4C30-BFFF-6C99E02E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2AAA-3205-48C6-9C38-8F433EA0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458-09B2-4FBB-94FC-C4CBE389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3C4-2B97-4892-85DC-93865B27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25B-CD67-4070-BACC-B2B26149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ECD-FD28-47C4-BE84-57F63292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537-1588-492D-B1C9-B46BF5EB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CA8-E880-4DBF-83AB-8333A86F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746-386F-4991-817D-56AA05A6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0345-585F-47B1-83B3-127A20A6DB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A4CC-D760-4F35-8268-0B7A9F0DB1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НЕВЕРБАЛН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КОМУНИКАЦИЈ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здигнута с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бринут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лакш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пуштена с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Љутња, бес, фрус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сока концетр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ук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ст преко усана и држање за 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главном значи да не говори ист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ржање руку за корен носа или додиривање н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лушалац не верујем ономе што ч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ржање руку у облику пирам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амопоуздање и вера у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гурне и супериорне 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ук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крштене р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товорен став, резервисаност и оп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ржање руку на леђ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упериорност, поуздање, мо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крштање или преклапање р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бринутост и ст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лчеви окренути на д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ско самопоузд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Ног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едење са раширеним ног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стицање дом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ћне и богате 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едење са прекрштеним нога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ежањ преко колена – сигурност, доминантност, тврдогла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ежањ преко глежња – неизвесност и 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лено преко колена – жене: заводнички став, заштитнички став, предострожност, склониш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арактеристике невербалне комуни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1676520"/>
          <a:ext cx="8610480" cy="509112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ктеристике комуник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бал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ербал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дна димензија (ре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ше димензија (став, глас ..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реме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инуира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сноћ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тко је погрешна интерпрет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к је двосмис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иј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е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чешће намер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о намер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Не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Функције невербалне комуникациј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пуњавање гов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мењивање вербалне комуникације – неки гест замени ре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глашавање (подупирање говора) – коришћење гестова да би се нешто наглас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ростављање говору – особа не признаје своју емотивну реакцију (“Нисам љут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Функциј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ражење ин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казивање пажње и интересо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жење и контрола инте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минација, претња и утица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ражење повратне инфо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ткривање став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ктивно избег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искре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сигур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сивно избег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пошт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пристој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заинтересова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јак (дуг) 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раз супери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тња (претећи ст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еља да се ув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глед нав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оба размишља, визуелни 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више улево – присећање, навише удесно – смишљ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гнал досаде и тражења нечег интересантниј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глед на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же бити знак субмис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же да показује крив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ниже улево – унутрашњи диј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ниже удесно – посвећеност сопственим емо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многим културама значи исказивање пошт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глед у ст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кретање ка извору привлачења пажње или прет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сећање на неки 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терални погледи (“шарање погледом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крети очима лево-десно могу указивати на прев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Шарање погледом се јавља и када се нешто саопштава “у поверењу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пуштене 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превару (у комбинацији са спуштеном глав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да се ради о доминантној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незадовољ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дигнуте 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привлачење паж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отвореност, па и субмис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6:38:41Z</dcterms:modified>
  <cp:revision>188</cp:revision>
  <dc:subject/>
  <dc:title>Soft and Hard Skills Development: A Current Situation in Serbian Companies</dc:title>
</cp:coreProperties>
</file>